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CF80-A4E9-4B3E-BA6A-2992F3E52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31FB-4F0B-4CF0-AE57-D37BF1ADF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1405-C8FC-45AA-BAA0-C0D310FFE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9462-169A-4A92-B478-45BF84231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7497-968D-4D0A-88DE-0512D14F4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5CC0-9AD2-4421-B714-DEB899C10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2314-390E-48AE-AB4B-6612E7857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5ED7F-39B5-4BA0-BB22-45CFAE952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EA4A-F76D-407B-8711-BB9EC0F8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22647-EB35-42B5-84B0-932E8E9E2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D0C95-6EFF-42CE-9942-15751A52E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0A8B3-F2E7-4443-BF59-6AEC8752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5FDF4-A4EF-4A12-BF8F-C6D457E0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1F687-3670-460B-B452-57289AB95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36481-B885-429B-A598-53B9B69F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8D62C-F49C-4F69-AAA5-0DA59B22E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F913-AAD6-4BDD-BEBA-61EAB279F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875A-56C9-4B53-888C-15761A67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3C4B-00E6-42FD-B421-E5B27095A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8209-3FF6-429A-B80C-DB90621D03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228600" y="1143000"/>
            <a:ext cx="86868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 and temperature of wa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The temperature at equilibr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same hotpot, and temperature sensor</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202716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 ml. of hot and 10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Of cold and 50ml. Of 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xed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eat up water in hotpo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asure temperature of cold water( more volume) measure temperature of hot wate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bine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asure combined temperature of wa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pic>
        <p:nvPicPr>
          <p:cNvPr id="60" name="Content Placeholder 3" descr="IMG_2292.JPG"/>
          <p:cNvPicPr/>
          <p:nvPr/>
        </p:nvPicPr>
        <p:blipFill>
          <a:blip r:embed="rId1"/>
          <a:stretch/>
        </p:blipFill>
        <p:spPr>
          <a:xfrm>
            <a:off x="1066680" y="118116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pic>
        <p:nvPicPr>
          <p:cNvPr id="62" name="Content Placeholder 3" descr="IMG_2286.JPG"/>
          <p:cNvPicPr/>
          <p:nvPr/>
        </p:nvPicPr>
        <p:blipFill>
          <a:blip r:embed="rId1"/>
          <a:stretch/>
        </p:blipFill>
        <p:spPr>
          <a:xfrm>
            <a:off x="1600200" y="16002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pic>
        <p:nvPicPr>
          <p:cNvPr id="64" name="Content Placeholder 3" descr="IMG_2291.JPG"/>
          <p:cNvPicPr/>
          <p:nvPr/>
        </p:nvPicPr>
        <p:blipFill>
          <a:blip r:embed="rId1"/>
          <a:stretch/>
        </p:blipFill>
        <p:spPr>
          <a:xfrm>
            <a:off x="1219320" y="13716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4T16:48:57Z</dcterms:modified>
  <cp:revision>9</cp:revision>
  <dc:subject/>
  <dc:title>Title:</dc:title>
</cp:coreProperties>
</file>